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18872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59F-C6A3-4E2E-A543-509DC8AC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C3F-3548-4611-834E-E55021C9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7FE-6B72-429E-9F2D-7F0759EE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812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2416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208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812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2416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368-8A00-40C6-AAFD-1C9E6AE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C3C2-73B4-40AF-A658-981AEBDF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05D-6619-4962-8E7C-C2118773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5A76-49EE-4A34-A072-7F74D1F6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F732-F2C8-4AB7-B9B5-14309F7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BBAE-928A-49FB-A949-11851B4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2080" y="690120"/>
            <a:ext cx="10103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0544-FB2B-4E4E-B7A9-F88139D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EE42-51AA-4DB7-AD54-8339F23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7D8-7E4F-41CF-B44B-A1EAAF84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C1A2-5631-494C-9AD0-D5250D3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559-5455-49E7-A486-3006A86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343-A940-44BB-8620-40B1144E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51DF-1973-4665-B156-D80BCF87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0812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24160" y="224460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208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0812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24160" y="4680720"/>
            <a:ext cx="325296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D11D-233D-430D-A37D-D75A6A9D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7FF-8C59-4F44-9355-35FFE26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032-C8E9-421C-91C9-B679443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208-59C3-4C19-A875-12C7A197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2080" y="690120"/>
            <a:ext cx="10103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1D1-DD14-4B06-898A-BB14403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F13-FEEB-454F-8313-2757BF8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9240" y="468072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3BB-B262-4F14-A8A6-0697660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9240" y="2244600"/>
            <a:ext cx="493020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2080" y="4680720"/>
            <a:ext cx="10103040" cy="22244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1A7-D932-4DAC-85DD-5FA4275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 fontScale="92000"/>
          </a:bodyPr>
          <a:p>
            <a:pPr marL="387000" indent="-3870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229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584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807920" indent="-2581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2324880" indent="-25812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2324880" indent="-25812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2324880" indent="-25812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17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0800" y="7081560"/>
            <a:ext cx="376560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83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fld id="{47FF9E8C-A3E2-4FEA-854D-3C7BA7BDFF64}" type="slidenum"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2080" y="2590920"/>
            <a:ext cx="10103040" cy="1295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917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60800" y="7081560"/>
            <a:ext cx="376560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footer&gt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518320" y="7081560"/>
            <a:ext cx="2476440" cy="5173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lstStyle>
            <a:lvl1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fld id="{117AFBD5-35F2-4A7B-8B0B-333F94CBA68B}" type="slidenum">
              <a:rPr b="0" lang="en-US" sz="1700" spc="-1" strike="noStrike">
                <a:solidFill>
                  <a:srgbClr val="ffffff"/>
                </a:solidFill>
                <a:latin typeface="Times New Roman"/>
                <a:ea typeface="Osaka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94360" y="1818720"/>
            <a:ext cx="1069812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 algn="ctr">
              <a:spcBef>
                <a:spcPts val="850"/>
              </a:spcBef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2392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84440" algn="ctr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246400" algn="ctr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24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24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2080" y="22093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Feature Arti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88920" y="3657240"/>
            <a:ext cx="8321400" cy="1692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Palatino"/>
              </a:rPr>
              <a:t>Searching for a Foc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Palatino"/>
              </a:rPr>
              <a:t>Big Idea or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4480" y="70041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6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81640" y="-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91040" y="771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815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10309320" cy="16718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A Feature Article Usually Has A ‘BIG IDEA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422440"/>
            <a:ext cx="10744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After choosing a topic, feature article writers need to find a ‘big idea’ about the topic they want to share with the rea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alatino"/>
              </a:rPr>
              <a:t>This idea is the one their whole article will focus on.</a:t>
            </a: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All of their information will support this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SEARCHING FOR</a:t>
            </a: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 </a:t>
            </a: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A</a:t>
            </a: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’BIG IDEA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1720" y="2244600"/>
            <a:ext cx="9806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8000"/>
                </a:solidFill>
                <a:latin typeface="Palatino"/>
              </a:rPr>
              <a:t>Feature article writer’s find this idea by asking themselves questions lik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850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Palatino"/>
              </a:rPr>
              <a:t>What can I say about this topic that will be new or uniqu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850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Palatino"/>
              </a:rPr>
              <a:t>What part of this topic is special to m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850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Palatino"/>
              </a:rPr>
              <a:t>What part of this topic bugs m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8000"/>
                </a:solidFill>
                <a:latin typeface="Palatino"/>
              </a:rPr>
              <a:t>STILL SEARCH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2080" y="2244600"/>
            <a:ext cx="10103040" cy="46641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 fontScale="98000"/>
          </a:bodyPr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at part of this topic has no one ever thought about befor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at do I know about this topic that might surprise the read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at about this topic just does not make sens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12200" indent="-4122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Palatino"/>
              <a:buChar char="•"/>
              <a:tabLst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Palatino"/>
              </a:rPr>
              <a:t>Who might have an opinion about this topic that has not been thought abou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2080" y="690120"/>
            <a:ext cx="1010304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Palatino"/>
              </a:rPr>
              <a:t>Your BIG IDEA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057400"/>
            <a:ext cx="94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Look at the topic you have chosen.  Select some possible ‘big ideas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641760"/>
            <a:ext cx="98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alatino"/>
              </a:rPr>
              <a:t>Ask and answer the questions we discussed or some you make 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5318280"/>
            <a:ext cx="1005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00"/>
                </a:solidFill>
                <a:latin typeface="Palatino"/>
              </a:rPr>
              <a:t>If you can, think of several possible ideas and be prepared to share the idea AND how or why you selecte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10102680" cy="1295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Palatino"/>
              </a:rPr>
              <a:t>Writing Con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413160"/>
            <a:ext cx="10614240" cy="268272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123920"/>
                <a:tab algn="l" pos="2247840"/>
                <a:tab algn="l" pos="3371760"/>
                <a:tab algn="l" pos="4495680"/>
                <a:tab algn="l" pos="5619600"/>
                <a:tab algn="l" pos="6743880"/>
                <a:tab algn="l" pos="7867800"/>
                <a:tab algn="l" pos="8991720"/>
                <a:tab algn="l" pos="10115640"/>
              </a:tabLst>
            </a:pPr>
            <a:r>
              <a:rPr b="0" lang="en-US" sz="4800" spc="-1" strike="noStrike">
                <a:solidFill>
                  <a:srgbClr val="ff8000"/>
                </a:solidFill>
                <a:latin typeface="Palatino"/>
              </a:rPr>
              <a:t>Be ready to talk about your focus with me during writing workshop this wee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3:24:01Z</dcterms:created>
  <dc:creator>AAPS</dc:creator>
  <dc:description/>
  <dc:language>en-US</dc:language>
  <cp:lastModifiedBy>AAPS</cp:lastModifiedBy>
  <cp:lastPrinted>2005-08-08T23:41:13Z</cp:lastPrinted>
  <dcterms:modified xsi:type="dcterms:W3CDTF">2005-10-20T03:12:37Z</dcterms:modified>
  <cp:revision>13</cp:revision>
  <dc:subject/>
  <dc:title>FEATURE ARTICLE</dc:title>
</cp:coreProperties>
</file>